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518-2F6B-4F9C-A511-85CDE351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47C-11C1-4BC9-A222-F5291AE3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3B3-C739-43B4-BEAE-14718884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67D-65FE-4DC8-B5E9-897F1A37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2F03-B8A3-446F-A426-8A4D6A09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A2FE-9278-4025-824D-C1FC5333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7F9D-BDCD-49E4-86F2-7B2D52DD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A7F1-65A7-4772-A442-E3BA0618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E155-7017-416C-B8AA-B1E21E67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29DA-9CFA-4429-9DD8-08FAACDF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DD61-831D-4F50-AF22-1CCF3FF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60C-B386-483E-B35D-84A2D7F6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E216-FE2B-4EDE-B623-78E0499B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EB06-B019-49EB-AF50-398232C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A0F6-B04E-443F-82E9-8B301085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8E5A-6DE5-46A2-B5EB-E9943B05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EBE0-BE6B-4907-9FBB-2038F7F0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8D6-E3D2-4BD6-A51B-2CD56572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15C-2B12-486A-9104-AB011373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67B-CFA0-4BD9-8AF6-7C2E03C8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9B4-6A7D-443F-8C60-212DF71C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214-9808-46CD-9403-9E673F05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587-3F8F-49E4-961C-2A3A4E5C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50B-86F0-4D5E-88F7-7CC554FA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750C-3658-4E57-B52A-3A9E11B130A1}" type="slidenum"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Book Antiqu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407C-A45E-412A-A8D7-96F561FE07C9}" type="slidenum">
              <a:rPr b="0" lang="ro-RO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iki/Mediu_activ,_laser" TargetMode="External"/><Relationship Id="rId2" Type="http://schemas.openxmlformats.org/officeDocument/2006/relationships/hyperlink" Target="http://ro.wikipedia.org/wiki/Solid" TargetMode="External"/><Relationship Id="rId3" Type="http://schemas.openxmlformats.org/officeDocument/2006/relationships/hyperlink" Target="http://ro.wikipedia.org/wiki/Lichid" TargetMode="External"/><Relationship Id="rId4" Type="http://schemas.openxmlformats.org/officeDocument/2006/relationships/hyperlink" Target="http://ro.wikipedia.org/wiki/Gaz" TargetMode="External"/><Relationship Id="rId5" Type="http://schemas.openxmlformats.org/officeDocument/2006/relationships/hyperlink" Target="http://ro.wikipedia.org/w/index.php?title=Cavitate_optic&#259;&amp;action=edit&amp;redlink=1" TargetMode="External"/><Relationship Id="rId6" Type="http://schemas.openxmlformats.org/officeDocument/2006/relationships/hyperlink" Target="http://ro.wikipedia.org/wiki/Electron" TargetMode="External"/><Relationship Id="rId7" Type="http://schemas.openxmlformats.org/officeDocument/2006/relationships/hyperlink" Target="http://ro.wikipedia.org/wiki/At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7240" y="2039760"/>
            <a:ext cx="7220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f193"/>
                </a:solidFill>
                <a:latin typeface="Book Antiqua"/>
              </a:rPr>
              <a:t>EFECTUL LAS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ounded Rectangle 2"/>
          <p:cNvSpPr/>
          <p:nvPr/>
        </p:nvSpPr>
        <p:spPr>
          <a:xfrm>
            <a:off x="395280" y="404640"/>
            <a:ext cx="4738680" cy="164340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ff193"/>
                </a:solidFill>
                <a:latin typeface="Book Antiqua"/>
              </a:rPr>
              <a:t>Efectul </a:t>
            </a:r>
            <a:r>
              <a:rPr b="1" lang="ro-RO" sz="5000" spc="-1" strike="noStrike">
                <a:solidFill>
                  <a:srgbClr val="eff193"/>
                </a:solidFill>
                <a:latin typeface="Arial"/>
              </a:rPr>
              <a:t>LASER</a:t>
            </a:r>
            <a:endParaRPr b="0" lang="en-US" sz="50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52" name="Rounded Rectangle 2"/>
          <p:cNvSpPr/>
          <p:nvPr/>
        </p:nvSpPr>
        <p:spPr>
          <a:xfrm>
            <a:off x="152280" y="2209680"/>
            <a:ext cx="8839440" cy="441972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serul este un dispozitiv optic care generează un fascicul coerent de lumină.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Fasciculele laser au mai multe proprietăţi care le diferenţiază de lumina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incoerent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produs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e exemplu de Soare sau de becul cu incandescenţă: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monocromatic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un spectru în general foarte îngust de lungimi de undă; 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irecţional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proprietatea de a se propaga pe distanţe mari cu o divergenţă foarte mică şi, ca urmare, capacitatea de a fi focalizate pe o arie foarte mică; 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intensitate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-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unii laseri 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su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nt suficient de puternici pentru a fi folosiţi la tăierea metalelor;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- coerenţa;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- strălucire mare.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	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 origine termenul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este acronimul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format în limba engleză</a:t>
            </a:r>
            <a:r>
              <a:rPr b="1" lang="en-US" sz="1600" spc="-1" strike="noStrike">
                <a:solidFill>
                  <a:srgbClr val="ffff99"/>
                </a:solidFill>
                <a:latin typeface="Book Antiqua"/>
              </a:rPr>
              <a:t> 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de la denumirea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light amplification by stimulated emission of radiation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(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amplificare a luminii prin stimularea emisiunii radiaţie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), denumire construită pe modelul termenului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m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care înseamnă un dispozitiv similar, funcţionând în domeniul microundelor.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17600" y="304560"/>
            <a:ext cx="78264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Principiul functionarii laserului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Rounded Rectangle 2"/>
          <p:cNvSpPr/>
          <p:nvPr/>
        </p:nvSpPr>
        <p:spPr>
          <a:xfrm>
            <a:off x="1042920" y="1413000"/>
            <a:ext cx="3733920" cy="464796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4647960"/>
              <a:gd name="textAreaBottom" fmla="*/ 4465800 h 4647960"/>
            </a:gdLst>
            <a:ahLst/>
            <a:rect l="textAreaLeft" t="textAreaTop" r="textAreaRight" b="textAreaBottom"/>
            <a:pathLst>
              <a:path w="21600" h="26887">
                <a:moveTo>
                  <a:pt x="3600" y="0"/>
                </a:moveTo>
                <a:arcTo wR="3600" hR="3600" stAng="16200000" swAng="-5400000"/>
                <a:lnTo>
                  <a:pt x="0" y="23287"/>
                </a:lnTo>
                <a:arcTo wR="3600" hR="3600" stAng="10800000" swAng="-5400000"/>
                <a:lnTo>
                  <a:pt x="18000" y="268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Laserul este un dispozitiv complex ce utilizează u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1"/>
              </a:rPr>
              <a:t>mediu activ laser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ce poate fi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2"/>
              </a:rPr>
              <a:t>solid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3"/>
              </a:rPr>
              <a:t>lichid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sau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4"/>
              </a:rPr>
              <a:t>gazos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, şi o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5"/>
              </a:rPr>
              <a:t>cavitate optică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rezonantă. Mediul activ, cu o compoziţie şi parametri determinaţi, primeşte energie din exterior prin ceea ce se numeşte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pompare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. Pomparea se poate realiza electric sau optic, folosind o sursă de lumină (flash, alt laser etc.) şi duce la excitarea atomilor din mediul activ, adică aducerea unora di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6"/>
              </a:rPr>
              <a:t>electroni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din </a:t>
            </a:r>
            <a:r>
              <a:rPr b="0" lang="ro-RO" sz="1600" spc="-1" strike="noStrike" u="sng">
                <a:solidFill>
                  <a:srgbClr val="ff3399"/>
                </a:solidFill>
                <a:uFillTx/>
                <a:latin typeface="Book Antiqua"/>
                <a:hlinkClick r:id="rId7"/>
              </a:rPr>
              <a:t>atomii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 mediului pe niveluri de energie superioare. 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55" name="Rounded Rectangle 2"/>
          <p:cNvSpPr/>
          <p:nvPr/>
        </p:nvSpPr>
        <p:spPr>
          <a:xfrm>
            <a:off x="5508720" y="4365720"/>
            <a:ext cx="3200400" cy="182880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Faţă de un mediu aflat în echilibru termic, acest mediu pompat ajunge să aibă mai mulţi electroni pe stările de energie superioare, fenomen numit </a:t>
            </a:r>
            <a:r>
              <a:rPr b="1" i="1" lang="ro-RO" sz="1600" spc="-1" strike="noStrike">
                <a:solidFill>
                  <a:srgbClr val="ffff99"/>
                </a:solidFill>
                <a:latin typeface="Book Antiqua"/>
              </a:rPr>
              <a:t>inversie de populaţie</a:t>
            </a:r>
            <a:r>
              <a:rPr b="1" lang="ro-RO" sz="1600" spc="-1" strike="noStrike">
                <a:solidFill>
                  <a:srgbClr val="ffff99"/>
                </a:solidFill>
                <a:latin typeface="Book Antiqua"/>
              </a:rPr>
              <a:t>.</a:t>
            </a:r>
            <a:endParaRPr b="0" lang="en-US" sz="1600" spc="-1" strike="noStrike">
              <a:solidFill>
                <a:srgbClr val="ffcc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ounded Rectangle 2"/>
          <p:cNvSpPr/>
          <p:nvPr/>
        </p:nvSpPr>
        <p:spPr>
          <a:xfrm>
            <a:off x="395280" y="692280"/>
            <a:ext cx="5929200" cy="164304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f193"/>
                </a:solidFill>
                <a:latin typeface="Book Antiqua"/>
              </a:rPr>
              <a:t>Caracteristicile fasciculului laser</a:t>
            </a:r>
            <a:endParaRPr b="0" lang="en-US" sz="4000" spc="-1" strike="noStrike">
              <a:solidFill>
                <a:srgbClr val="ffcc00"/>
              </a:solidFill>
              <a:latin typeface="Book Antiqua"/>
            </a:endParaRPr>
          </a:p>
        </p:txBody>
      </p:sp>
      <p:sp>
        <p:nvSpPr>
          <p:cNvPr id="357" name="Rounded Rectangle 2"/>
          <p:cNvSpPr/>
          <p:nvPr/>
        </p:nvSpPr>
        <p:spPr>
          <a:xfrm>
            <a:off x="684360" y="3573360"/>
            <a:ext cx="6933960" cy="2590920"/>
          </a:xfrm>
          <a:prstGeom prst="roundRect">
            <a:avLst>
              <a:gd name="adj" fmla="val 16667"/>
            </a:avLst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Intensitate</a:t>
            </a:r>
            <a:endParaRPr b="0" lang="en-US" sz="2800" spc="-1" strike="noStrike">
              <a:solidFill>
                <a:srgbClr val="ffcc00"/>
              </a:solidFill>
              <a:latin typeface="Book Antiqua"/>
            </a:endParaRPr>
          </a:p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Monocromaticitate</a:t>
            </a:r>
            <a:endParaRPr b="0" lang="en-US" sz="2800" spc="-1" strike="noStrike">
              <a:solidFill>
                <a:srgbClr val="ffcc00"/>
              </a:solidFill>
              <a:latin typeface="Book Antiqua"/>
            </a:endParaRPr>
          </a:p>
          <a:p>
            <a:pPr>
              <a:buClr>
                <a:srgbClr val="eff1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eff193"/>
                </a:solidFill>
                <a:latin typeface="Book Antiqua"/>
              </a:rPr>
              <a:t>Directionalitate</a:t>
            </a:r>
            <a:endParaRPr b="0" lang="en-US" sz="2800" spc="-1" strike="noStrike">
              <a:solidFill>
                <a:srgbClr val="ffcc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5:15:15Z</dcterms:created>
  <dc:creator>Andreea</dc:creator>
  <dc:description/>
  <dc:language>en-US</dc:language>
  <cp:lastModifiedBy>AS</cp:lastModifiedBy>
  <dcterms:modified xsi:type="dcterms:W3CDTF">2010-01-07T08:25:40Z</dcterms:modified>
  <cp:revision>34</cp:revision>
  <dc:subject/>
  <dc:title>Puterea Brandului Internaţional. </dc:title>
</cp:coreProperties>
</file>